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wmf" ContentType="image/x-wmf"/>
  <Override PartName="/ppt/media/image21.jpeg" ContentType="image/jpeg"/>
  <Override PartName="/ppt/media/image16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</p:sldIdLst>
  <p:sldSz cx="12193588" cy="6858000"/>
  <p:notesSz cx="676116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"/>
          <p:cNvSpPr/>
          <p:nvPr/>
        </p:nvSpPr>
        <p:spPr>
          <a:xfrm>
            <a:off x="0" y="0"/>
            <a:ext cx="67608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304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 type="dt" idx="70"/>
          </p:nvPr>
        </p:nvSpPr>
        <p:spPr>
          <a:xfrm>
            <a:off x="3828600" y="-360"/>
            <a:ext cx="29307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 type="sldImg"/>
          </p:nvPr>
        </p:nvSpPr>
        <p:spPr>
          <a:xfrm>
            <a:off x="401400" y="1240920"/>
            <a:ext cx="5957640" cy="335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 type="body"/>
          </p:nvPr>
        </p:nvSpPr>
        <p:spPr>
          <a:xfrm>
            <a:off x="676080" y="4779720"/>
            <a:ext cx="5408280" cy="39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5"/>
          <p:cNvSpPr>
            <a:spLocks noGrp="1"/>
          </p:cNvSpPr>
          <p:nvPr>
            <p:ph type="ftr" idx="71"/>
          </p:nvPr>
        </p:nvSpPr>
        <p:spPr>
          <a:xfrm>
            <a:off x="0" y="9433080"/>
            <a:ext cx="293040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6"/>
          <p:cNvSpPr>
            <a:spLocks noGrp="1"/>
          </p:cNvSpPr>
          <p:nvPr>
            <p:ph type="sldNum" idx="72"/>
          </p:nvPr>
        </p:nvSpPr>
        <p:spPr>
          <a:xfrm>
            <a:off x="3828600" y="9433080"/>
            <a:ext cx="293076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459DE-65A6-4C7E-986F-FE4BE46E556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Rectangle 7"/>
          <p:cNvSpPr/>
          <p:nvPr/>
        </p:nvSpPr>
        <p:spPr>
          <a:xfrm>
            <a:off x="3828960" y="9433080"/>
            <a:ext cx="293076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09054-99C3-46DF-85C5-6E5283B269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1"/>
          <p:cNvSpPr>
            <a:spLocks noGrp="1"/>
          </p:cNvSpPr>
          <p:nvPr>
            <p:ph type="sldImg"/>
          </p:nvPr>
        </p:nvSpPr>
        <p:spPr>
          <a:xfrm>
            <a:off x="401760" y="1241280"/>
            <a:ext cx="5957640" cy="3351240"/>
          </a:xfrm>
          <a:prstGeom prst="rect">
            <a:avLst/>
          </a:prstGeom>
          <a:ln w="0">
            <a:noFill/>
          </a:ln>
        </p:spPr>
      </p:sp>
      <p:sp>
        <p:nvSpPr>
          <p:cNvPr id="1043" name="PlaceHolder 2"/>
          <p:cNvSpPr>
            <a:spLocks noGrp="1"/>
          </p:cNvSpPr>
          <p:nvPr>
            <p:ph type="body"/>
          </p:nvPr>
        </p:nvSpPr>
        <p:spPr>
          <a:xfrm>
            <a:off x="676080" y="4779720"/>
            <a:ext cx="540828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B29B-C873-41AE-A106-7C677E66E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BC98-B5C9-4E45-9983-53AA523EA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C1D502-B6BB-4F47-B403-D39287CC9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2E32DB-C4F5-43D0-BC6E-BC175D486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9440AE-0721-4508-B9E5-B6E59FF3B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220919-C3C8-42E9-8C98-A4B57B609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6F5E12-1DB1-4AEC-95AD-18B7035AE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12B571-A9CD-4490-8486-68F9F2C8B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145B0E-F9AB-448C-BC7A-F64338A86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2CFFA0-0689-4564-8A21-B9196FA80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06DB31-1010-4EB0-A399-EDA936B6F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BE53A1-3E03-4B68-A4E4-3FFC6B742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009A-7B61-4B9E-BA72-E5AD36870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DD2242-93C6-4FD8-BFC1-4669D975F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F1E03B-7C4B-4813-8DB9-AEA850B55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21CB59-C24E-450A-A236-A58CC31DD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42FD6F-BBEA-4295-B736-26E760AFE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EDF49B-B8C1-406B-9DD2-693820D7E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40AB62-8C9A-4FA9-A594-988252010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6B3A49-CFFF-4815-B9FC-47B5D688C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6DF27C-37F4-43CE-A3E7-0945CD6F4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BF5456-4199-4A50-AEAC-A38A318F9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2AC180-3830-4A3E-964B-91A907CCD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8D7F-80C3-4491-9740-54149D175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74D90B-E532-4263-9E59-1725A589A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13DE90-EA59-492A-AE22-E678B1B52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439531-7442-4551-B775-73CFE4E21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F37D6D-E395-4541-8E65-DAC95CAD1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78A0CE-2BEB-408F-9687-EB8777997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908BE0-31D1-4EB0-ABB6-84D322299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318226-7AF6-4DB9-910C-D96132859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6A1895-7F10-4475-AB46-DBE1FC79D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19E430-190F-4A7B-9CC7-8338961A4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4F44F6-526A-4383-A96D-29F11D5EA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C2BC0-1312-4228-B8E8-5DAA64DFD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9B25CD-A6AA-48E0-93DF-F18D2983D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0D2A62-078C-4E15-91DC-42A7DCBD2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BB3B30-9664-444C-86AE-B5D0AC4F9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9631E5-8AC7-4BBC-AD4F-4CA5B3F68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607487-EC5C-4A01-8F12-759198E25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EE21CB-146F-4EF4-AE06-BED48A437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0C1C88-3E66-478C-BDA6-FD6BFA40E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E0E264-5CC3-4502-810B-535D04200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1B682C-96F5-43D5-974C-CA2CBE176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C3F9FA-4361-43F6-A010-44FEFAE6D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87902-2C99-4A83-9A08-37ADC270D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283D17-7E65-4A0F-81DA-C944517F4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8B48F3-1FA6-4C5A-89FD-EB29BB538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6B19B5-A112-438F-9858-CB47848B9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A20C3E-0168-496A-9C95-B3F7D9D9E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F34E89-06F9-4492-8394-298158B59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FA6748-8E3A-4CB0-A470-C05E6CA9B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85391B-3868-425B-B83D-EAD853E3C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7C4874-E9D5-47BA-9AAF-C759F3469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2572C0-2D81-4ACE-AF44-F009629E6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3566C0-7DCF-4E4F-A78E-467040F94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23995-A577-4EC0-BCF9-04BD90F6F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565238-9CD5-44E6-9D56-D412DDC5A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F5336E-4F2C-491A-9093-C79F1D498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6F6933-92CC-4892-8927-5CB00726B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849FB0-3EDC-4E24-B80B-0095C6193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917A39-1AD6-474E-A3BE-5AEA3CB22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CBFEBC-E7E3-43D5-AC10-F02420FE9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FCD7B0-DD4E-4A4D-B4D1-0FAA85601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61AB47-04E9-4D8C-BADF-877203868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4E5964-3E2D-4DB7-B3E3-4604BF687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AD3F56-0F91-4894-AC14-553B137E8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3D2B9-8BC5-4259-8A27-BF81EACF9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50C489-03BE-4877-8DB2-3984D811B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054FB7-5EBD-4B80-B9D6-1E22F86A0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66B51B-C163-4140-A905-831AB9BC0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247E97-9A7A-4ACE-AE52-EA3561DA1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FA2A13-27B5-4F10-8F5E-4721FE19B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CB81E3-E8BC-4A30-A5DF-4C16195AC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B2FEFB-3A3A-4BBB-B8F2-622A2A1D2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02696E-2469-4D0D-B9B7-6C6359EDB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5EB148-7979-4F64-8D64-68F9CC0C9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2CC359-7113-42D0-932B-5D10553DF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5B20F-E9EC-4AF4-BBF8-69B34BBAD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85E07A-8033-4E83-8BD1-3B9692893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34FBF6-F85A-436C-8D82-0BAB61B4A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11E36A-894C-4772-9982-18CDAB343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A70AFA-B9B9-47BF-B517-1EFC22117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1A402A-8FEC-41CC-A464-B00CAAF41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F31610-E8AB-41FF-A623-4197321A8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998C2C-2BD4-45AB-A58B-5A4BDC6CA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CAC4D6-1975-44ED-BFD0-12A3F4445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933889-CB75-497E-9B9E-31173B6C2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BADB79-6D96-4352-A8C4-54C4F2B88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E18EF-8D9B-4D11-82AF-9834F9202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619DEC-997D-4782-B623-C46C78C7F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103CA0-6A54-4476-B0C6-61C1DA3D2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2BA4A9-AE06-4FEE-BC1F-9F7897CC5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67F2D0-9890-4A08-8245-A938A2A55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176CDC-D848-4786-82A7-04744621B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18B453-6287-4933-82DC-C93991FC3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6CF61E-1163-483B-812E-13DEB79F1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12B388-93D1-4BAB-B336-2A5DB7588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2D4022-1B03-4D20-AF56-33AC363D5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065007-E2B0-4C91-9773-61FD0BC8B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8CA64-66DA-4ED2-ADD9-E7E3EFF00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AB4747-6817-47C4-9A29-FB46FE3B3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072743-DDAF-4C46-A89F-852267B14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15BF17-24F3-4C13-9BBB-E3D785CBC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3421E1-720F-4DDE-9A05-8FC159A0B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04A3AB-CE05-48B9-967E-963FF2E03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89BD5A-46E4-4CF5-8F7C-D6954800D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A9935A-1984-49CA-9835-445D00942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6B4F34-BB1D-47B4-9782-B49EF9A30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C238B8-C568-4629-90CE-FD5A26370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6CAF93-84B5-4717-9B7B-E1327AA6A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67A9-A631-4B87-9BD3-890B960B4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BD6BA-2E7D-4994-956D-4B72F562A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4037D1-8FAD-4BD5-81F0-D04E1E5B4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7D008C-4872-4C79-9968-FBFDD437A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FA651E-60F2-49DC-B56B-DE67EFD02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AFAD01-5EC5-4EA9-9D1D-964164272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3A2D87-D0EC-4586-AED0-C280D15F9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62DD27-D7C5-4639-9FEE-6407F8FEA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2F7A74-8F44-46CE-9174-B97A2EDF0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A7E4AB-5831-4EAB-B803-D45B6BB6A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EB4FE7-24AB-456B-8165-8B3B55D41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E160AC-C5BB-4C3B-9F44-E72F2D694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3637C-8E5D-4EC1-99A8-EE1BBF32D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FABABE-2671-404C-B584-52778C687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DACB35-A8BB-447C-A434-6EF1C65D4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24313E-E5FA-4315-9B47-22CC22B41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9B12F5-CAC1-4A13-81E8-0A75C0287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3EEF21-4FDB-43B3-B810-F7B0142F2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273BD5-72C6-4CAE-807B-A8067E427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A14465-90F0-4E7E-94D3-CC1873411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967026-1ACC-4819-9A14-060048E0E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F426C9-DB56-4611-9B33-1933D5B4D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992E45-2BD9-49FC-B511-F08C806C2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04F58-2896-4DCF-A354-30A617454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B30094-D4F9-40FE-94EB-F9C0BD5D1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E680DF-DF7C-467B-849E-076D44B78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2AEA93-47D9-489C-A37E-B0BE0515D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288DDC-1E2B-4225-A89A-321BF331B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13AACA-2332-4CB9-BB18-E9FC74251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3592AC-689B-4D71-B5D8-C1BAA30AD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731406-B2E6-43BE-9200-FA83B1CF1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97C2A1-2620-4777-9E55-37BE719E2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5B1416-DA03-4E06-AAC5-BF08ADF72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537468-277E-449A-ABBC-4F60236A1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CBEBB-CB4C-441C-A430-660DA2195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93FEB6-E17E-441E-B332-FBBA58CC8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F17512-F937-4D6D-BDC7-B4C11CC68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3524B4-0138-4DC8-A3B4-4AF4A7241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4AD99D-CC54-433D-A4B2-EB185C343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A60033-6C89-46AA-9A11-94888F964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B9F3B8-B70E-4F1E-B9CC-205D1A020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54C6D7-1A43-483A-916B-6EE835485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A19A13-D2A4-4103-8AE4-81D8A95E4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6BF894-F5A4-442F-8C16-B88B69077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AA1A9A-4DBF-4CC7-8CE1-3A60854B9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83AFE-E8EB-4FEC-AB10-7B9BCE856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D6AC48-F824-4F94-884F-1EAE5422A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E4C0FC-F2BE-4787-8EE5-E7313DB1A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473A8B-9306-4C11-9054-B45406FC9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AE2CF2-4C88-40F8-AAF0-B848B478C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A3F1C2-6435-429D-83F9-433D00D23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668475-6AFB-44B3-B212-C831E567B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5E5BAA-C545-4A19-9EAF-9C97DC4A5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1DAC46-80D0-4CF8-B13D-5C854966B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144173-3164-42F5-8489-9AA9ECDB4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068312-20BA-484A-B038-704CC34D8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3C3CD3-1FFE-485F-8745-14487B3BA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628728-5DE5-4243-BEF9-E16864EE7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7F1DF3-69AE-4804-BD7D-89D6DD81C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1D62D7-DED7-4B7B-A7C3-879B26FA4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F53578E-9CDA-4524-8CBE-BCD33A61F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0BF09E-3060-444C-AEA7-12CD3BB36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8307E2-0F30-4358-9C15-D85C38324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856E965-699F-4E41-8B71-1908A4AC6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6E808A8-47CD-4C21-B406-971006640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F76E550-9BCD-4993-A27D-A040D0B82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F8ED7F9-7537-4B27-B136-D86205893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D13C1C9-F0C1-479C-8002-1A36C98AE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F10DF95-24B9-4607-9CED-E4EDFCBE5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297DD38-458D-454B-B896-02202FB95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505737-D125-4806-BF36-C34FE151F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67C0470-8DE9-4405-9A36-B7B85358E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856FAA2-8A3A-4F5D-B015-7750D3014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FA2878D-BC7F-4D67-837D-D46D9A500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533BB9E-9E6B-42C6-8ECE-84CBAF3F1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EBFB8DC-6BD7-45AF-BAF7-F3B68A1EB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06C42CA-24A7-4975-8D26-D1C198696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9D54CB3-145D-4273-AE4E-9497706C1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C8A0E12-85CB-4D91-8058-C6786B2F6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DE543D8-534B-4EAD-BA3D-C0C015D06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253186D-AE44-4034-85D1-62EE082E1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83436E1-BFC1-4F71-BED4-3184646F8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68FB323-9B2B-43B2-A4FA-902EB02D6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9109C81-EA15-40BB-901B-F85A4F6C9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24DFE29-FF8F-48DD-9505-BB7537A78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F24B63D-2FB2-49C1-9CDE-B580F8CA2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F08C476-D5EA-4529-BA4F-0FFBABC70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10FBAE8-2B57-496E-9FD1-DE0BE9CA5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1395C8F-B903-4EBC-8382-CC4B05304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0ABD5AE-6DFE-4B9D-BACA-D637345DE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3A232EC-B7F4-4078-AB7F-3C04CCBC1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6DA9640-6725-490D-B6B2-19C232511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25FAAE1-1B8E-4C34-995D-322E60934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1E2321F-16ED-4583-B66A-69ECD2B58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61E8599-AA79-438C-AD88-3E0330169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9DA2-A036-4BA4-844C-9FF3DB5D3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D4BBC-E184-4F88-95E2-A0346F43C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FECBD-64E8-45D3-8C75-3E2B8ED84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F707A-B472-48BD-844B-9539D9520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159B-1217-41DB-B97F-C10FC23EB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046E9-62E9-4E17-B64A-440EF49B1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E99AD-5169-4E9F-99BD-A29E852B3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F4B46-A377-40F3-9530-8C7311404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B5A25-E196-4201-9A2B-ADD6DAF5C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3001F-E79B-429D-8873-3D78A1E84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581EB-F51C-4297-8D70-EB001264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C7255-18C6-45BA-B5D0-38F7E3701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CFE6B-FEE4-4AC9-8367-D70CFA452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3BEEA-5CC1-4F47-ACAB-EBE383603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44C79-119F-4849-8495-458E5D8ED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7E50-E31D-4485-8063-E47F81FEC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B137B-D986-4B95-AA66-4F3626A49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6AC99-2614-4DA5-9903-96CE8776F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2830B-57ED-469C-A780-CFED50673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3967E-BC0F-425E-8207-449902D81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E68C4-A1CD-4EF0-998E-692BFD15F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9634A-E8CB-47F6-AA11-130AA1D43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0F586-011A-4004-ADFB-7BD558518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A4560-A358-484B-856F-59DFB43DB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E56D3-23A6-403C-8DBD-FD06CC68C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96671-0D78-4ADE-8CDD-27638C1EC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89EA-B7E6-4EB6-9BC6-B752ED735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F0464-0C87-4F86-8A3C-12141B3CB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499D07-7D92-43E6-870B-4E09866BE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97160B-8F58-4DF5-A7E0-98189F31F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510FC4-BCE7-4890-B254-982B30ABE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89E13F-DE89-4FD7-9A0F-96F88F0BA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96B9DD-5AC1-4712-B819-ECF1686BA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5A543A-B4DC-4984-AAFC-4655E135C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98AFBC-7D70-432E-B5D8-2111AD0D1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32C5A9-FA30-4FFA-A532-78D30C00F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DCBC82-6867-4036-819A-9D3E7033C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DD6C-03F4-4ECF-85A5-DA6E0FBAB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D60D27-C328-4C57-9898-B49F1F60A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0F1040-384E-4975-8BB2-D82BDBD24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8D59A9-807C-4E8A-8C80-3F62CE6A5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C0B11C-2258-4836-B0F4-0BD03C418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3BC868-3000-4D01-AB67-134A2667E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6BE967-24DA-49C7-A6EF-280A7F31B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49C1C0-DE82-4050-915F-0B387C55B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470149-03C1-485C-A027-3AB77FF41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A78E14-2A30-4864-BBD6-BFB50408F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3EF535-96EF-4AAE-8C6F-7EB4BF329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FCBE-D26D-491B-9269-5685B6DF3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84C96E-AC1F-4EE4-BD82-3B70549BC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53645D-2B65-43AE-B2B0-77350049B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F8ED23-2B32-4DF1-9DB5-0C46A3E31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0C539F-AA18-4309-96D8-C35A94821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F73341-B8F5-4FC2-A263-CABA722C7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9EA4F2-DECD-4C31-9BB3-E86787D2D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8B7271-750C-45CF-B75C-CBA0A1C06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4DEB58-C24F-435D-939A-7FD0CEF44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210222-0BE0-4C70-8721-B7EA9BE03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4BBD05-81AF-4789-A971-7FCE7D787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738D-FA79-4DAE-B2B0-DFD1ACDBC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CC6B84-8D6F-4DF3-993A-7DA45E5E2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2DAD1C-C0F6-459F-AD4E-E341D29D2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B276CF-A13C-45F7-BE59-FE598823E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7ADFDC-4008-4588-B561-629FA2036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90072D-808B-4686-9AD6-D5EF56DAD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B9BFFB-C140-4959-A4A8-59263D765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2BFB09-7CA8-488E-907C-908843D17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75F54E-E9B5-4403-8A61-DEADB3177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164822-3BD6-41B0-9B1B-60CAECC5F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0075FD-FBD6-4BD0-AAFA-43AEEFE3E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8239B-B1FC-4538-903D-2A7651DA1C0D}" type="slidenum">
              <a:rPr b="1" i="1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5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6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7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24D85-C03D-446A-B37D-3C299C142BB7}" type="slidenum">
              <a:rPr b="0" lang="ru-RU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53BBF-F1A4-4183-95A6-B04FC09BE2C5}" type="slidenum">
              <a:rPr b="0" lang="ru-RU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3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3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6BD7F-BA18-4C92-AC69-D340EB63CE67}" type="slidenum">
              <a:rPr b="0" lang="ru-RU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3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ftr" idx="3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sldNum" idx="3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086EF-7F98-47F0-A17B-0EB07091BF65}" type="slidenum">
              <a:rPr b="0" lang="ru-RU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3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3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3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E0F9E-DCAF-42B7-A86A-972B264F57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dt" idx="4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ftr" idx="4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 type="sldNum" idx="4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5A95B-AEC0-4C8E-A316-874E9213F1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dt" idx="4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 type="ftr" idx="4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 type="sldNum" idx="4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DD52C-E508-408D-9850-ECBECDB55C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 type="dt" idx="4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 type="ftr" idx="4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 type="sldNum" idx="4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1451F-A4B5-443C-9131-B0D4732292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C70C4-803D-466B-936F-3C7EDEB89D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 type="dt" idx="52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 type="ftr" idx="53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 type="sldNum" idx="54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0B4A6-4D51-40E2-B7EB-3513F118FE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06CBE-C2FD-4909-B7E5-7E441AE9E3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 type="dt" idx="55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 type="ftr" idx="56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 type="sldNum" idx="57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4C714-2A03-4F8F-9980-F95D2DC819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 type="dt" idx="58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 type="ftr" idx="59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 type="sldNum" idx="60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C99CB-6701-4787-879B-660BA609AE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 type="dt" idx="6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 type="ftr" idx="6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 type="sldNum" idx="6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D913B-408A-4A37-8742-F497E27F0F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 type="dt" idx="6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 type="ftr" idx="6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 type="sldNum" idx="6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B5C04-840E-4568-A3E2-8AA985B6F4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 type="dt" idx="6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 type="ftr" idx="6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 type="sldNum" idx="6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B6D1C-BBED-4825-9802-774DDBC49C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6" descr=""/>
          <p:cNvPicPr/>
          <p:nvPr/>
        </p:nvPicPr>
        <p:blipFill>
          <a:blip r:embed="rId3"/>
          <a:stretch/>
        </p:blipFill>
        <p:spPr>
          <a:xfrm>
            <a:off x="0" y="0"/>
            <a:ext cx="12192120" cy="9698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8144A-056C-4F86-9EF9-3BD73849EEBB}" type="slidenum">
              <a:rPr b="0" lang="ru-RU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A727C-391F-4B4C-9E0A-7650C289C426}" type="slidenum">
              <a:rPr b="0" lang="ru-RU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4F515-3C31-465C-8295-3A7E7F9E7A4F}" type="slidenum">
              <a:rPr b="0" lang="ru-RU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A90BF-8C3F-411C-A665-D4B0BD4A707B}" type="slidenum">
              <a:rPr b="0" lang="ru-RU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19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20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21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A3807-B488-44DC-B260-96C1ADC7571B}" type="slidenum">
              <a:rPr b="0" lang="ru-RU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22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3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4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6689A-F20E-48A2-8C71-854651A1BEA2}" type="slidenum">
              <a:rPr b="0" lang="ru-RU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9" name="Рисунок 1" descr=""/>
          <p:cNvPicPr/>
          <p:nvPr/>
        </p:nvPicPr>
        <p:blipFill>
          <a:blip r:embed="rId1"/>
          <a:stretch/>
        </p:blipFill>
        <p:spPr>
          <a:xfrm>
            <a:off x="8674200" y="4797360"/>
            <a:ext cx="1920600" cy="2048040"/>
          </a:xfrm>
          <a:prstGeom prst="rect">
            <a:avLst/>
          </a:prstGeom>
          <a:ln w="0">
            <a:noFill/>
          </a:ln>
        </p:spPr>
      </p:pic>
      <p:sp>
        <p:nvSpPr>
          <p:cNvPr id="990" name="Text Box 6"/>
          <p:cNvSpPr/>
          <p:nvPr/>
        </p:nvSpPr>
        <p:spPr>
          <a:xfrm>
            <a:off x="4203720" y="589752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2719440" y="135000"/>
          <a:ext cx="6696000" cy="701640"/>
        </p:xfrm>
        <a:graphic>
          <a:graphicData uri="http://schemas.openxmlformats.org/drawingml/2006/table">
            <a:tbl>
              <a:tblPr/>
              <a:tblGrid>
                <a:gridCol w="6696000"/>
              </a:tblGrid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cd5b5"/>
                          </a:solidFill>
                          <a:latin typeface="Arial"/>
                        </a:rPr>
                        <a:t>БЮРО СУДЕБНО-МЕДИЦИНСКОЙ ЭКСПЕРТИЗЫ МОСКОВСКОЙ ОБЛАСТИ</a:t>
                      </a:r>
                      <a:r>
                        <a:rPr b="1" lang="en-US" sz="1800" spc="-1" strike="noStrike">
                          <a:solidFill>
                            <a:srgbClr val="fcd5b5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400" spc="-1" strike="noStrike">
                          <a:solidFill>
                            <a:srgbClr val="fcd5b5"/>
                          </a:solidFill>
                          <a:latin typeface="Arial"/>
                        </a:rPr>
                        <a:t>ГБУЗ МО «Бюро СМЭ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3735"/>
                    </a:solidFill>
                  </a:tcPr>
                </a:tc>
              </a:tr>
            </a:tbl>
          </a:graphicData>
        </a:graphic>
      </p:graphicFrame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1704600" y="1341360"/>
            <a:ext cx="871236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РЕЗУЛЬТАТЫ ТЕМАТИЧЕСКОЙ ПРОВЕРКИ</a:t>
            </a:r>
            <a:br>
              <a:rPr sz="2800"/>
            </a:b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Актов судебно-медицинских исследований (Заключений эксперта) в случаях смерти от новообразований </a:t>
            </a:r>
            <a:br>
              <a:rPr sz="2800"/>
            </a:b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ЗА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 1 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ПОЛУГОДИЕ  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2015 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ГОДА</a:t>
            </a:r>
            <a:br>
              <a:rPr sz="2800"/>
            </a:br>
            <a:br>
              <a:rPr sz="32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3" name="Схема 3" descr=""/>
          <p:cNvPicPr/>
          <p:nvPr/>
        </p:nvPicPr>
        <p:blipFill>
          <a:blip r:embed="rId2"/>
          <a:stretch/>
        </p:blipFill>
        <p:spPr>
          <a:xfrm>
            <a:off x="3090960" y="5735520"/>
            <a:ext cx="6046560" cy="757440"/>
          </a:xfrm>
          <a:prstGeom prst="rect">
            <a:avLst/>
          </a:prstGeom>
          <a:ln w="0">
            <a:noFill/>
          </a:ln>
        </p:spPr>
      </p:pic>
      <p:sp>
        <p:nvSpPr>
          <p:cNvPr id="994" name="Прямоугольник 6"/>
          <p:cNvSpPr/>
          <p:nvPr/>
        </p:nvSpPr>
        <p:spPr>
          <a:xfrm>
            <a:off x="0" y="4091040"/>
            <a:ext cx="12192120" cy="1498680"/>
          </a:xfrm>
          <a:prstGeom prst="rect">
            <a:avLst/>
          </a:prstGeom>
          <a:solidFill>
            <a:srgbClr val="4f81bd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С.А. Жулин</a:t>
            </a:r>
            <a:br>
              <a:rPr sz="1400"/>
            </a:b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 врач организационно-методического отдела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Зав. Красногорским СМ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ГБУЗ МО «Бюро судебно-медицинской экспертизы»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шибки в оформлении судебно-медицинского диагно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4" name="Объект 5"/>
          <p:cNvGraphicFramePr/>
          <p:nvPr/>
        </p:nvGraphicFramePr>
        <p:xfrm>
          <a:off x="787320" y="2013120"/>
          <a:ext cx="10617120" cy="4493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5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2013120"/>
                    <a:ext cx="10617120" cy="44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6" name="Прямоугольник 6"/>
          <p:cNvSpPr/>
          <p:nvPr/>
        </p:nvSpPr>
        <p:spPr>
          <a:xfrm>
            <a:off x="4530600" y="1600200"/>
            <a:ext cx="6823080" cy="3054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сновные ошибки, выявленные в ходе проверки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еверный (необоснованный) выбор основной нозологической единицы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тсутствие гистологической характеристики злокачественного новообразования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тсутствие рубрификации диагноза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окращение, обобщение основных морфологических проявлений (неполнота диагноза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тсутствие морфологических проявлений таких осложнений как «интоксикация», «печеночно-почечная недостаточность»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тсутствие в диагнозе сведений о проведенных хирургических операциях по поводу новообразования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несение метастазов в рубрику «осложнения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шибки в заключении о причине смер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8" name="Объект 5"/>
          <p:cNvGraphicFramePr/>
          <p:nvPr/>
        </p:nvGraphicFramePr>
        <p:xfrm>
          <a:off x="558720" y="1549440"/>
          <a:ext cx="11074320" cy="462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9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549440"/>
                    <a:ext cx="11074320" cy="46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0" name="Прямоугольник 6"/>
          <p:cNvSpPr/>
          <p:nvPr/>
        </p:nvSpPr>
        <p:spPr>
          <a:xfrm>
            <a:off x="4551480" y="1409760"/>
            <a:ext cx="6691320" cy="2881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сновные ошибки, выявленные в ходе проверки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тсутствие непосредственной причины смерти (смертельного осложнения) в выводах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тсутствие указания на конкретную нозологическую единицу (основную причину смерти) в выводах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еобоснованная непосредственная причина смерти (не соответствующая отмеченным морфологическим признакам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609480" y="96480"/>
            <a:ext cx="10972800" cy="2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ыв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Прямоугольник 4"/>
          <p:cNvSpPr/>
          <p:nvPr/>
        </p:nvSpPr>
        <p:spPr>
          <a:xfrm>
            <a:off x="430200" y="574560"/>
            <a:ext cx="11761920" cy="61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роизводство судебно-медицинских экспертиз (исследований) трупов при смерти от новообразований в ряде случаев  проводится с существенными недостатками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Для повышения качества судебно-медицинских исследований трупов в случаях смерти от злокачественных новообразований необходимо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иваться предоставления первичной информации о новообразовании, медицинском наблюдении до начала исследования трупа (работа с правоохранительными органами, назначающими исследование трупа, с медицинскими организациями – поликлиниками – предоставление медицинских карт амбулаторного больного с заполненным посмертным эпикризом до начала исследования трупа);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людение порядка производства судебно-медицинских экспертиз в государственных судебно-медицинских учреждениях, утвержденного приказом №346н Министерства Здравоохранения РФ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оценное описание наружных и внутренних макроскопических признаков для обоснования основной и непосредственной причин смерти (прицельное описание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злокачественного новообразования (локализация, форма, размеры, цвет, плотность, прорастание в окружающие ткани, метастазов, регионарных и отдаленных лимфатических узлов, наличие некрозов и кровоизлияний в новообразованиях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аточный набор материала для гистологического исследования, обязательное проведение гистологического исследования для определения морфологической характеристики новообразования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снованный выбор причин смерти при заполнении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ого свидетельства о смерти; обоснованный выбор кода МКБ-10;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снованное построение судебно-медицинского диагноза, обоснованное построение вывода о причине смерти, включающего основную и непосредственную причину смерти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Рисунок 1" descr=""/>
          <p:cNvPicPr/>
          <p:nvPr/>
        </p:nvPicPr>
        <p:blipFill>
          <a:blip r:embed="rId1"/>
          <a:stretch/>
        </p:blipFill>
        <p:spPr>
          <a:xfrm>
            <a:off x="6815160" y="1173240"/>
            <a:ext cx="3938400" cy="5398920"/>
          </a:xfrm>
          <a:prstGeom prst="rect">
            <a:avLst/>
          </a:prstGeom>
          <a:ln w="0">
            <a:noFill/>
          </a:ln>
        </p:spPr>
      </p:pic>
      <p:pic>
        <p:nvPicPr>
          <p:cNvPr id="1034" name="Рисунок 2" descr=""/>
          <p:cNvPicPr/>
          <p:nvPr/>
        </p:nvPicPr>
        <p:blipFill>
          <a:blip r:embed="rId2"/>
          <a:stretch/>
        </p:blipFill>
        <p:spPr>
          <a:xfrm>
            <a:off x="1374840" y="1170000"/>
            <a:ext cx="3781440" cy="5400720"/>
          </a:xfrm>
          <a:prstGeom prst="rect">
            <a:avLst/>
          </a:prstGeom>
          <a:ln w="0">
            <a:noFill/>
          </a:ln>
        </p:spPr>
      </p:pic>
      <p:sp>
        <p:nvSpPr>
          <p:cNvPr id="1035" name="Прямоугольник 3"/>
          <p:cNvSpPr/>
          <p:nvPr/>
        </p:nvSpPr>
        <p:spPr>
          <a:xfrm>
            <a:off x="1808280" y="152280"/>
            <a:ext cx="8381880" cy="900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уководства и справочники по построению диагноз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6" name="Picture 8" descr="D:\RADUGA_DESIGN\Выставка_КрокусСити_21_24\Правительство Москвы\Spolohi 02 Correct\Spolohi 02 Correct_opasity.png"/>
          <p:cNvPicPr/>
          <p:nvPr/>
        </p:nvPicPr>
        <p:blipFill>
          <a:blip r:embed="rId1"/>
          <a:stretch/>
        </p:blipFill>
        <p:spPr>
          <a:xfrm>
            <a:off x="1735200" y="-7318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37" name="Заголовок 1" descr=""/>
          <p:cNvPicPr/>
          <p:nvPr/>
        </p:nvPicPr>
        <p:blipFill>
          <a:blip r:embed="rId2"/>
          <a:stretch/>
        </p:blipFill>
        <p:spPr>
          <a:xfrm>
            <a:off x="1523880" y="1127160"/>
            <a:ext cx="9144000" cy="573084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2" descr="Y:\D\правила\Книга идентификация\business_people_03.tif"/>
          <p:cNvPicPr/>
          <p:nvPr/>
        </p:nvPicPr>
        <p:blipFill>
          <a:blip r:embed="rId3"/>
          <a:stretch/>
        </p:blipFill>
        <p:spPr>
          <a:xfrm>
            <a:off x="1633680" y="4870440"/>
            <a:ext cx="1670040" cy="177948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1" descr=""/>
          <p:cNvPicPr/>
          <p:nvPr/>
        </p:nvPicPr>
        <p:blipFill>
          <a:blip r:embed="rId4"/>
          <a:stretch/>
        </p:blipFill>
        <p:spPr>
          <a:xfrm>
            <a:off x="0" y="-27000"/>
            <a:ext cx="12192120" cy="1171440"/>
          </a:xfrm>
          <a:prstGeom prst="rect">
            <a:avLst/>
          </a:prstGeom>
          <a:ln w="0">
            <a:noFill/>
          </a:ln>
        </p:spPr>
      </p:pic>
      <p:sp>
        <p:nvSpPr>
          <p:cNvPr id="1040" name="Прямоугольник 1"/>
          <p:cNvSpPr/>
          <p:nvPr/>
        </p:nvSpPr>
        <p:spPr>
          <a:xfrm>
            <a:off x="3865680" y="5310360"/>
            <a:ext cx="6410160" cy="1172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Жулин С.А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Заведующий Красногорским судебно-медицинским отделением ГБУЗ МО «Бюро СМЭ»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рач судебно-медицинский эксперт организационно-методического отдела ГБУЗ МО «Бюро СМЭ»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zhulin@sudmedmo.ru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Прямоугольник 3"/>
          <p:cNvSpPr/>
          <p:nvPr/>
        </p:nvSpPr>
        <p:spPr>
          <a:xfrm>
            <a:off x="0" y="200160"/>
            <a:ext cx="6846840" cy="76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254061"/>
                </a:solidFill>
                <a:latin typeface="Times New Roman"/>
                <a:ea typeface="Calibri"/>
              </a:rPr>
              <a:t>  </a:t>
            </a:r>
            <a:r>
              <a:rPr b="1" lang="ru-RU" sz="3200" spc="-1" strike="noStrike">
                <a:solidFill>
                  <a:srgbClr val="254061"/>
                </a:solidFill>
                <a:latin typeface="Times New Roman"/>
                <a:ea typeface="Calibri"/>
              </a:rPr>
              <a:t>13 мая 2015 год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4061"/>
                </a:solidFill>
                <a:latin typeface="Times New Roman"/>
                <a:ea typeface="Calibri"/>
              </a:rPr>
              <a:t>в ГБУЗ МО «Бюро СМЭ»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4061"/>
                </a:solidFill>
                <a:latin typeface="Times New Roman"/>
                <a:ea typeface="Calibri"/>
              </a:rPr>
              <a:t>издано распоряжени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4061"/>
                </a:solidFill>
                <a:latin typeface="Times New Roman"/>
                <a:ea typeface="Calibri"/>
              </a:rPr>
              <a:t>о выборочной тематической проверк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4061"/>
                </a:solidFill>
                <a:latin typeface="Times New Roman"/>
                <a:ea typeface="Calibri"/>
              </a:rPr>
              <a:t>Актов судебно-медицинског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4061"/>
                </a:solidFill>
                <a:latin typeface="Times New Roman"/>
                <a:ea typeface="Calibri"/>
              </a:rPr>
              <a:t> </a:t>
            </a:r>
            <a:r>
              <a:rPr b="1" lang="ru-RU" sz="3200" spc="-1" strike="noStrike">
                <a:solidFill>
                  <a:srgbClr val="254061"/>
                </a:solidFill>
                <a:latin typeface="Times New Roman"/>
                <a:ea typeface="Calibri"/>
              </a:rPr>
              <a:t>исследования труп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4061"/>
                </a:solidFill>
                <a:latin typeface="Times New Roman"/>
                <a:ea typeface="Calibri"/>
              </a:rPr>
              <a:t>(Заключений эксперта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4061"/>
                </a:solidFill>
                <a:latin typeface="Times New Roman"/>
                <a:ea typeface="Calibri"/>
              </a:rPr>
              <a:t>за 2015 год в случаях смерт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4061"/>
                </a:solidFill>
                <a:latin typeface="Times New Roman"/>
                <a:ea typeface="Calibri"/>
              </a:rPr>
              <a:t>от новообразовани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Рисунок 1"/>
          <p:cNvSpPr/>
          <p:nvPr/>
        </p:nvSpPr>
        <p:spPr>
          <a:xfrm>
            <a:off x="0" y="820800"/>
            <a:ext cx="521496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7" name="Group 6"/>
          <p:cNvGrpSpPr/>
          <p:nvPr/>
        </p:nvGrpSpPr>
        <p:grpSpPr>
          <a:xfrm>
            <a:off x="6753240" y="0"/>
            <a:ext cx="5438880" cy="6858000"/>
            <a:chOff x="6753240" y="0"/>
            <a:chExt cx="5438880" cy="6858000"/>
          </a:xfrm>
        </p:grpSpPr>
        <p:sp>
          <p:nvSpPr>
            <p:cNvPr id="998" name="AutoShape 5"/>
            <p:cNvSpPr/>
            <p:nvPr/>
          </p:nvSpPr>
          <p:spPr>
            <a:xfrm>
              <a:off x="6753240" y="163800"/>
              <a:ext cx="5438880" cy="66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99" name="Picture 7" descr=""/>
            <p:cNvPicPr/>
            <p:nvPr/>
          </p:nvPicPr>
          <p:blipFill>
            <a:blip r:embed="rId1"/>
            <a:srcRect l="6556" t="3249" r="5179" b="8205"/>
            <a:stretch/>
          </p:blipFill>
          <p:spPr>
            <a:xfrm>
              <a:off x="6753240" y="0"/>
              <a:ext cx="5145480" cy="6858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"/>
          <p:cNvSpPr txBox="1"/>
          <p:nvPr/>
        </p:nvSpPr>
        <p:spPr>
          <a:xfrm>
            <a:off x="838080" y="151920"/>
            <a:ext cx="10515600" cy="654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На выборочную тематическую проверку было представлено 135 Актов судебно-медицинского исследования трупа (Заключений эксперта) в случаях смерти от злокачественных новообразований и 6 Актов судебно-медицинского исследования трупа (Заключений эксперта) в случаях смерти от доброкачественных новообразований. При проверке учитывались следующие критерии качества судебно-медицинских исследований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соответствие составленного экспертного документа (Акта судебно-медицинского исследования трупа, Заключения эксперта) – нормативно-правовым документам,  требованиям организационно-методического отдела ГБУЗ МО «Бюро СМЭ»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соответствие перечня материалов представленных эксперту (изученных) – перечню материалов в направительном документе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изучение медицинских документов, материалов проверки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работа с медицинским документами, внесение сведений из них в акт судебно-медицинского исследования трупа (заключение эксперта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качество наружного исследования трупа (соответствие трупных явлений – известному времени наступления смерти; описание периферических лимфоузлов; новообразований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качество внутреннего исследования трупа (прицельное описание новообразований, регионарных лимфоузлов, прицельное описание тканей в зоне проведенных операций по удалению новообразований;  полнота описания макроскопической картины осложнений новообразований; полнота направления материала для гистологического исследования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данные медицинского свидетельства о смерти (соответствие указанной причины смерти в МСС проведенному исследований, патогенетическая последовательность указанных причин смерти в пункте 19 МСС, соответствие кода МКБ-10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полнота и обоснованность судебно-медицинского диагноза (соответствие проведенному исследованию трупа, наличие гистологической характеристики новообразования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обоснованность заключения о причине смерти, указание основной и непосредственной причин смерти в заключении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1" name="Picture 7" descr=""/>
          <p:cNvPicPr/>
          <p:nvPr/>
        </p:nvPicPr>
        <p:blipFill>
          <a:blip r:embed="rId1"/>
          <a:stretch/>
        </p:blipFill>
        <p:spPr>
          <a:xfrm>
            <a:off x="1071720" y="1160640"/>
            <a:ext cx="4614840" cy="538128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>
                <a:alpha val="0"/>
              </a:srgbClr>
            </a:outerShdw>
          </a:effectLst>
        </p:spPr>
      </p:pic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09480" y="140760"/>
            <a:ext cx="1097280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Количество случаев смерти 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т злокачественных новообразов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3" name="Picture 8" descr=""/>
          <p:cNvPicPr/>
          <p:nvPr/>
        </p:nvPicPr>
        <p:blipFill>
          <a:blip r:embed="rId2"/>
          <a:srcRect l="0" t="2829" r="0" b="0"/>
          <a:stretch/>
        </p:blipFill>
        <p:spPr>
          <a:xfrm>
            <a:off x="5900760" y="1219320"/>
            <a:ext cx="5219640" cy="52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10972800" cy="94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Изучение медицинских документов в случаях смерти от злокачественных новообразований (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5" name="Picture 7" descr=""/>
          <p:cNvPicPr/>
          <p:nvPr/>
        </p:nvPicPr>
        <p:blipFill>
          <a:blip r:embed="rId1"/>
          <a:stretch/>
        </p:blipFill>
        <p:spPr>
          <a:xfrm>
            <a:off x="331920" y="1195560"/>
            <a:ext cx="2971800" cy="5486400"/>
          </a:xfrm>
          <a:prstGeom prst="rect">
            <a:avLst/>
          </a:prstGeom>
          <a:ln w="0">
            <a:noFill/>
          </a:ln>
        </p:spPr>
      </p:pic>
      <p:pic>
        <p:nvPicPr>
          <p:cNvPr id="1006" name="Picture 8" descr=""/>
          <p:cNvPicPr/>
          <p:nvPr/>
        </p:nvPicPr>
        <p:blipFill>
          <a:blip r:embed="rId2"/>
          <a:srcRect l="0" t="0" r="12309" b="0"/>
          <a:stretch/>
        </p:blipFill>
        <p:spPr>
          <a:xfrm>
            <a:off x="3282840" y="1717560"/>
            <a:ext cx="4008600" cy="395604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9" descr=""/>
          <p:cNvPicPr/>
          <p:nvPr/>
        </p:nvPicPr>
        <p:blipFill>
          <a:blip r:embed="rId3"/>
          <a:srcRect l="4836" t="0" r="16026" b="0"/>
          <a:stretch/>
        </p:blipFill>
        <p:spPr>
          <a:xfrm>
            <a:off x="7338960" y="1428840"/>
            <a:ext cx="45594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10972800" cy="9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Изучения материалов проверки в случаях смерти от злокачественных новообразований (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9" name="Диаграмма 7" descr=""/>
          <p:cNvPicPr/>
          <p:nvPr/>
        </p:nvPicPr>
        <p:blipFill>
          <a:blip r:embed="rId1"/>
          <a:stretch/>
        </p:blipFill>
        <p:spPr>
          <a:xfrm>
            <a:off x="0" y="914400"/>
            <a:ext cx="3187800" cy="6119640"/>
          </a:xfrm>
          <a:prstGeom prst="rect">
            <a:avLst/>
          </a:prstGeom>
          <a:ln w="0">
            <a:noFill/>
          </a:ln>
        </p:spPr>
      </p:pic>
      <p:pic>
        <p:nvPicPr>
          <p:cNvPr id="1010" name="Диаграмма 8" descr=""/>
          <p:cNvPicPr/>
          <p:nvPr/>
        </p:nvPicPr>
        <p:blipFill>
          <a:blip r:embed="rId2"/>
          <a:stretch/>
        </p:blipFill>
        <p:spPr>
          <a:xfrm>
            <a:off x="2908440" y="1420920"/>
            <a:ext cx="5857560" cy="5145120"/>
          </a:xfrm>
          <a:prstGeom prst="rect">
            <a:avLst/>
          </a:prstGeom>
          <a:ln w="0">
            <a:noFill/>
          </a:ln>
        </p:spPr>
      </p:pic>
      <p:pic>
        <p:nvPicPr>
          <p:cNvPr id="1011" name="Диаграмма 9" descr=""/>
          <p:cNvPicPr/>
          <p:nvPr/>
        </p:nvPicPr>
        <p:blipFill>
          <a:blip r:embed="rId3"/>
          <a:stretch/>
        </p:blipFill>
        <p:spPr>
          <a:xfrm>
            <a:off x="7394400" y="1438200"/>
            <a:ext cx="4572000" cy="25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ефекты протокольных частей (наружное и внутреннее исследование трупа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3" name="Объект 6"/>
          <p:cNvGraphicFramePr/>
          <p:nvPr/>
        </p:nvGraphicFramePr>
        <p:xfrm>
          <a:off x="558720" y="1549440"/>
          <a:ext cx="11074320" cy="462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14" name="Объект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549440"/>
                    <a:ext cx="11074320" cy="46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5" name="Прямоугольник 7"/>
          <p:cNvSpPr/>
          <p:nvPr/>
        </p:nvSpPr>
        <p:spPr>
          <a:xfrm>
            <a:off x="4756320" y="1801800"/>
            <a:ext cx="7043400" cy="3027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сновные дефекты, установленные в ходе тематической проверки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есоответствие трупных явлений при достоверно известном времени наступления смерти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едостаточное описание признаков, свидетельствующих о непосредственной причине смерти, в том числе кахексии, малокровии, желтухе, интоксикации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едостаточное описание злокачественного новообразования (локализация, форма, размеры, цвет, плотность, прорастание в окружающие ткани, наличие некрозов и кровоизлияний в новообразовании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тсутствие описания регионарных и отдаленных лимфатических узлов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109728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роведение гистологических исследованиях в случаях смерти от злокачественных новообразований (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Диаграмма 7" descr=""/>
          <p:cNvPicPr/>
          <p:nvPr/>
        </p:nvPicPr>
        <p:blipFill>
          <a:blip r:embed="rId1"/>
          <a:stretch/>
        </p:blipFill>
        <p:spPr>
          <a:xfrm>
            <a:off x="255600" y="1371600"/>
            <a:ext cx="2871720" cy="4840200"/>
          </a:xfrm>
          <a:prstGeom prst="rect">
            <a:avLst/>
          </a:prstGeom>
          <a:ln w="0">
            <a:noFill/>
          </a:ln>
        </p:spPr>
      </p:pic>
      <p:pic>
        <p:nvPicPr>
          <p:cNvPr id="1018" name="Диаграмма 8" descr=""/>
          <p:cNvPicPr/>
          <p:nvPr/>
        </p:nvPicPr>
        <p:blipFill>
          <a:blip r:embed="rId2"/>
          <a:stretch/>
        </p:blipFill>
        <p:spPr>
          <a:xfrm>
            <a:off x="3054240" y="1146240"/>
            <a:ext cx="4578480" cy="5175360"/>
          </a:xfrm>
          <a:prstGeom prst="rect">
            <a:avLst/>
          </a:prstGeom>
          <a:ln w="0">
            <a:noFill/>
          </a:ln>
        </p:spPr>
      </p:pic>
      <p:pic>
        <p:nvPicPr>
          <p:cNvPr id="1019" name="Диаграмма 9" descr=""/>
          <p:cNvPicPr/>
          <p:nvPr/>
        </p:nvPicPr>
        <p:blipFill>
          <a:blip r:embed="rId3"/>
          <a:stretch/>
        </p:blipFill>
        <p:spPr>
          <a:xfrm>
            <a:off x="7778880" y="1279440"/>
            <a:ext cx="413856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шибки в медицинских свидетельствах о смерти в случаях злокачественных новообразов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1" name="Диаграмма 5"/>
          <p:cNvGraphicFramePr/>
          <p:nvPr/>
        </p:nvGraphicFramePr>
        <p:xfrm>
          <a:off x="1106640" y="1360440"/>
          <a:ext cx="10617120" cy="5391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2" name="Диаграмма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6640" y="1360440"/>
                    <a:ext cx="10617120" cy="539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06:24:11Z</dcterms:created>
  <dc:creator>КУЧУК</dc:creator>
  <dc:description/>
  <dc:language>en-US</dc:language>
  <cp:lastModifiedBy>Сергей</cp:lastModifiedBy>
  <dcterms:modified xsi:type="dcterms:W3CDTF">2015-10-13T20:58:36Z</dcterms:modified>
  <cp:revision>229</cp:revision>
  <dc:subject/>
  <dc:title>Анализ причин смерти по данным БЮРО СУДЕБНО-МЕДИЦИНСКОЙ ЭКСПЕРТИЗЫ МОСКОВСКОЙ ОБЛАСТИ  за 9 месяцев 2014 ГОДа</dc:title>
</cp:coreProperties>
</file>